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372-D0A8-44E5-B07B-DCA02EA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45B-41AC-4880-9FC3-07F5E45D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B0A-93FC-4455-A9B8-77BC009D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136-97C2-4AA6-9C1A-E701F824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67CD-75B9-421B-A436-D0AD3315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8DB4-4BB0-4859-9B1D-FA12747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1FAD-9315-489E-AFB9-0D45D1E3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3F0-C54A-4144-8430-04C6079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D3AE-7FBE-48AD-A810-41D76BF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9629-64D4-4456-A050-8733F44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58A-7F7B-482C-9D45-560CDB1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A82-6EFE-4CEE-96DA-58B70F0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295-0043-4275-92E1-3F2772BD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8B6C-B101-4D92-91EE-981404A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CB0A-BB37-4C8F-B270-1B51B75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8EDC-0D4D-4227-89CD-D94962B7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CF0-FF01-4E04-B4C1-72CDB510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8BF-5865-4D69-A21E-E4B174AF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782-EC0F-4E73-84E8-9FBB8A6D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7A5-17DD-4FFB-A004-93352F5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9B7-8491-4966-A209-223D83B5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BFA-C662-49E4-8285-A79909B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563-D3DC-42BB-9403-FBE52867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871-2CDA-452D-BD6A-4538A23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" name="Obdélník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bdélník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bdélník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bdélník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římá spojnice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bdélník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á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Ová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6d868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905F36-047F-47DE-85D9-F254AF1D7208}" type="slidenum">
              <a:rPr b="0" lang="cs-CZ" sz="1600" spc="-1" strike="noStrike">
                <a:solidFill>
                  <a:srgbClr val="6d8687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200" spc="-1" strike="noStrike">
                <a:solidFill>
                  <a:schemeClr val="accent1"/>
                </a:solidFill>
                <a:latin typeface="Calibri"/>
              </a:rPr>
              <a:t>Kliknutím lze upravit styl.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Kliknutím lze upravit styl.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7b989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148C0C-3C4F-4996-A795-025E835DF630}" type="slidenum">
              <a:rPr b="0" lang="cs-CZ" sz="1600" spc="-1" strike="noStrike">
                <a:solidFill>
                  <a:srgbClr val="7b98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Druhá úroveň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31640" y="31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Uložení potrub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postup výstavb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zásypy potr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1"/>
                </a:solidFill>
                <a:latin typeface="Calibri"/>
              </a:rPr>
              <a:t>V</a:t>
            </a: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ýstavba IS </a:t>
            </a:r>
            <a:br>
              <a:rPr sz="4200"/>
            </a:b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v prostoru Slatinice – produktovody a trubní sítě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678528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UAS           7.10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14364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PT / PTP / V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2860560" y="4924800"/>
            <a:ext cx="3342960" cy="133308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9" descr=""/>
          <p:cNvPicPr/>
          <p:nvPr/>
        </p:nvPicPr>
        <p:blipFill>
          <a:blip r:embed="rId2"/>
          <a:stretch/>
        </p:blipFill>
        <p:spPr>
          <a:xfrm>
            <a:off x="323640" y="5559480"/>
            <a:ext cx="1113480" cy="6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8098200" y="5538240"/>
            <a:ext cx="719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51280" y="2364840"/>
            <a:ext cx="8690040" cy="2304000"/>
          </a:xfrm>
          <a:prstGeom prst="rect">
            <a:avLst/>
          </a:prstGeom>
          <a:ln w="0">
            <a:noFill/>
          </a:ln>
        </p:spPr>
      </p:pic>
      <p:sp>
        <p:nvSpPr>
          <p:cNvPr id="157" name="Volný tvar 4"/>
          <p:cNvSpPr/>
          <p:nvPr/>
        </p:nvSpPr>
        <p:spPr>
          <a:xfrm>
            <a:off x="5801760" y="3853440"/>
            <a:ext cx="1082880" cy="452880"/>
          </a:xfrm>
          <a:custGeom>
            <a:avLst/>
            <a:gdLst>
              <a:gd name="textAreaLeft" fmla="*/ 0 w 1082880"/>
              <a:gd name="textAreaRight" fmla="*/ 1083240 w 108288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385703" h="179353">
                <a:moveTo>
                  <a:pt x="0" y="289"/>
                </a:moveTo>
                <a:lnTo>
                  <a:pt x="100081" y="110778"/>
                </a:lnTo>
                <a:cubicBezTo>
                  <a:pt x="99287" y="130622"/>
                  <a:pt x="100190" y="159031"/>
                  <a:pt x="99396" y="178875"/>
                </a:cubicBezTo>
                <a:lnTo>
                  <a:pt x="283891" y="179353"/>
                </a:lnTo>
                <a:lnTo>
                  <a:pt x="283891" y="107449"/>
                </a:lnTo>
                <a:lnTo>
                  <a:pt x="385703" y="0"/>
                </a:lnTo>
                <a:lnTo>
                  <a:pt x="0" y="289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Volný tvar 5"/>
          <p:cNvSpPr/>
          <p:nvPr/>
        </p:nvSpPr>
        <p:spPr>
          <a:xfrm>
            <a:off x="4398840" y="3146040"/>
            <a:ext cx="1007640" cy="4694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Šipka ve tvaru U 7"/>
          <p:cNvSpPr/>
          <p:nvPr/>
        </p:nvSpPr>
        <p:spPr>
          <a:xfrm flipH="1">
            <a:off x="4644360" y="2570400"/>
            <a:ext cx="1779840" cy="1287360"/>
          </a:xfrm>
          <a:custGeom>
            <a:avLst/>
            <a:gdLst>
              <a:gd name="textAreaLeft" fmla="*/ 360 w 1779840"/>
              <a:gd name="textAreaRight" fmla="*/ 1780560 w 1779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780251" h="1275059">
                <a:moveTo>
                  <a:pt x="0" y="1275058"/>
                </a:moveTo>
                <a:lnTo>
                  <a:pt x="9525" y="316877"/>
                </a:lnTo>
                <a:cubicBezTo>
                  <a:pt x="9525" y="141871"/>
                  <a:pt x="151396" y="0"/>
                  <a:pt x="326402" y="0"/>
                </a:cubicBezTo>
                <a:lnTo>
                  <a:pt x="1313689" y="0"/>
                </a:lnTo>
                <a:cubicBezTo>
                  <a:pt x="1488695" y="0"/>
                  <a:pt x="1630566" y="141871"/>
                  <a:pt x="1630566" y="316877"/>
                </a:cubicBezTo>
                <a:lnTo>
                  <a:pt x="1630566" y="316877"/>
                </a:lnTo>
                <a:lnTo>
                  <a:pt x="1780251" y="316877"/>
                </a:lnTo>
                <a:lnTo>
                  <a:pt x="1526376" y="577049"/>
                </a:lnTo>
                <a:lnTo>
                  <a:pt x="1272500" y="316877"/>
                </a:lnTo>
                <a:lnTo>
                  <a:pt x="1422185" y="316877"/>
                </a:lnTo>
                <a:lnTo>
                  <a:pt x="1422185" y="316877"/>
                </a:lnTo>
                <a:cubicBezTo>
                  <a:pt x="1422185" y="256956"/>
                  <a:pt x="1373610" y="208381"/>
                  <a:pt x="1313689" y="208381"/>
                </a:cubicBezTo>
                <a:lnTo>
                  <a:pt x="326402" y="208381"/>
                </a:lnTo>
                <a:cubicBezTo>
                  <a:pt x="266481" y="208381"/>
                  <a:pt x="217906" y="256956"/>
                  <a:pt x="217906" y="316877"/>
                </a:cubicBezTo>
                <a:cubicBezTo>
                  <a:pt x="216319" y="636271"/>
                  <a:pt x="214731" y="955665"/>
                  <a:pt x="213144" y="1275059"/>
                </a:cubicBezTo>
                <a:lnTo>
                  <a:pt x="0" y="1275058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9cb86e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Volný tvar 8"/>
          <p:cNvSpPr/>
          <p:nvPr/>
        </p:nvSpPr>
        <p:spPr>
          <a:xfrm>
            <a:off x="5253480" y="3621960"/>
            <a:ext cx="1723320" cy="231840"/>
          </a:xfrm>
          <a:custGeom>
            <a:avLst/>
            <a:gdLst>
              <a:gd name="textAreaLeft" fmla="*/ 0 w 1723320"/>
              <a:gd name="textAreaRight" fmla="*/ 1723680 w 17233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7331" h="76997">
                <a:moveTo>
                  <a:pt x="174455" y="76997"/>
                </a:moveTo>
                <a:lnTo>
                  <a:pt x="515468" y="76997"/>
                </a:lnTo>
                <a:cubicBezTo>
                  <a:pt x="515250" y="67738"/>
                  <a:pt x="515789" y="72828"/>
                  <a:pt x="529937" y="57989"/>
                </a:cubicBezTo>
                <a:cubicBezTo>
                  <a:pt x="545484" y="44881"/>
                  <a:pt x="540616" y="49309"/>
                  <a:pt x="547090" y="46563"/>
                </a:cubicBezTo>
                <a:cubicBezTo>
                  <a:pt x="547680" y="41337"/>
                  <a:pt x="549678" y="47947"/>
                  <a:pt x="516090" y="38592"/>
                </a:cubicBezTo>
                <a:cubicBezTo>
                  <a:pt x="514830" y="32614"/>
                  <a:pt x="516535" y="14733"/>
                  <a:pt x="516089" y="8301"/>
                </a:cubicBezTo>
                <a:cubicBezTo>
                  <a:pt x="514131" y="-1319"/>
                  <a:pt x="515782" y="7095"/>
                  <a:pt x="513417" y="0"/>
                </a:cubicBezTo>
                <a:lnTo>
                  <a:pt x="36891" y="11"/>
                </a:lnTo>
                <a:lnTo>
                  <a:pt x="0" y="42076"/>
                </a:lnTo>
                <a:lnTo>
                  <a:pt x="137753" y="39685"/>
                </a:lnTo>
                <a:lnTo>
                  <a:pt x="174455" y="76997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Volný tvar 9"/>
          <p:cNvSpPr/>
          <p:nvPr/>
        </p:nvSpPr>
        <p:spPr>
          <a:xfrm>
            <a:off x="3957120" y="3838680"/>
            <a:ext cx="769320" cy="367920"/>
          </a:xfrm>
          <a:custGeom>
            <a:avLst/>
            <a:gdLst>
              <a:gd name="textAreaLeft" fmla="*/ 0 w 769320"/>
              <a:gd name="textAreaRight" fmla="*/ 769680 w 7693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22331" h="140206">
                <a:moveTo>
                  <a:pt x="0" y="0"/>
                </a:moveTo>
                <a:lnTo>
                  <a:pt x="322331" y="2381"/>
                </a:lnTo>
                <a:lnTo>
                  <a:pt x="255414" y="68712"/>
                </a:lnTo>
                <a:lnTo>
                  <a:pt x="253749" y="139525"/>
                </a:lnTo>
                <a:lnTo>
                  <a:pt x="74549" y="140206"/>
                </a:lnTo>
                <a:cubicBezTo>
                  <a:pt x="74678" y="118898"/>
                  <a:pt x="73430" y="91268"/>
                  <a:pt x="73559" y="6996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Šipka ve tvaru U 10"/>
          <p:cNvSpPr/>
          <p:nvPr/>
        </p:nvSpPr>
        <p:spPr>
          <a:xfrm>
            <a:off x="4255560" y="2669040"/>
            <a:ext cx="1500480" cy="11793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dd3b6"/>
              </a:gs>
              <a:gs pos="100000">
                <a:srgbClr val="a96d2b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Volný tvar 11"/>
          <p:cNvSpPr/>
          <p:nvPr/>
        </p:nvSpPr>
        <p:spPr>
          <a:xfrm>
            <a:off x="5009760" y="3289680"/>
            <a:ext cx="929880" cy="325440"/>
          </a:xfrm>
          <a:custGeom>
            <a:avLst/>
            <a:gdLst>
              <a:gd name="textAreaLeft" fmla="*/ 0 w 929880"/>
              <a:gd name="textAreaRight" fmla="*/ 930240 w 9298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Volný tvar 15"/>
          <p:cNvSpPr/>
          <p:nvPr/>
        </p:nvSpPr>
        <p:spPr>
          <a:xfrm>
            <a:off x="1910160" y="3840840"/>
            <a:ext cx="898200" cy="407880"/>
          </a:xfrm>
          <a:custGeom>
            <a:avLst/>
            <a:gdLst>
              <a:gd name="textAreaLeft" fmla="*/ 0 w 898200"/>
              <a:gd name="textAreaRight" fmla="*/ 898560 w 8982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6172" h="155453">
                <a:moveTo>
                  <a:pt x="0" y="364"/>
                </a:moveTo>
                <a:lnTo>
                  <a:pt x="376172" y="0"/>
                </a:lnTo>
                <a:lnTo>
                  <a:pt x="284328" y="82809"/>
                </a:lnTo>
                <a:cubicBezTo>
                  <a:pt x="284106" y="107024"/>
                  <a:pt x="283883" y="131238"/>
                  <a:pt x="283661" y="155453"/>
                </a:cubicBezTo>
                <a:lnTo>
                  <a:pt x="91499" y="153387"/>
                </a:lnTo>
                <a:cubicBezTo>
                  <a:pt x="91628" y="132079"/>
                  <a:pt x="89383" y="104449"/>
                  <a:pt x="89512" y="83141"/>
                </a:cubicBezTo>
                <a:lnTo>
                  <a:pt x="0" y="364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Šipka ve tvaru U 10"/>
          <p:cNvSpPr/>
          <p:nvPr/>
        </p:nvSpPr>
        <p:spPr>
          <a:xfrm>
            <a:off x="2269800" y="2655360"/>
            <a:ext cx="1624680" cy="117936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c84b8"/>
              </a:gs>
              <a:gs pos="100000">
                <a:srgbClr val="ff0066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Volný tvar 17"/>
          <p:cNvSpPr/>
          <p:nvPr/>
        </p:nvSpPr>
        <p:spPr>
          <a:xfrm>
            <a:off x="3220920" y="3263760"/>
            <a:ext cx="856080" cy="360000"/>
          </a:xfrm>
          <a:custGeom>
            <a:avLst/>
            <a:gdLst>
              <a:gd name="textAreaLeft" fmla="*/ 0 w 856080"/>
              <a:gd name="textAreaRight" fmla="*/ 856440 w 85608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333499" h="124068">
                <a:moveTo>
                  <a:pt x="0" y="122447"/>
                </a:moveTo>
                <a:lnTo>
                  <a:pt x="333499" y="124068"/>
                </a:lnTo>
                <a:lnTo>
                  <a:pt x="300510" y="64916"/>
                </a:lnTo>
                <a:lnTo>
                  <a:pt x="207216" y="0"/>
                </a:lnTo>
                <a:lnTo>
                  <a:pt x="123221" y="3209"/>
                </a:lnTo>
                <a:lnTo>
                  <a:pt x="31781" y="75374"/>
                </a:lnTo>
                <a:lnTo>
                  <a:pt x="0" y="12244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Volný tvar 18"/>
          <p:cNvSpPr/>
          <p:nvPr/>
        </p:nvSpPr>
        <p:spPr>
          <a:xfrm>
            <a:off x="1810080" y="3621960"/>
            <a:ext cx="2061360" cy="222120"/>
          </a:xfrm>
          <a:custGeom>
            <a:avLst/>
            <a:gdLst>
              <a:gd name="textAreaLeft" fmla="*/ 0 w 2061360"/>
              <a:gd name="textAreaRight" fmla="*/ 2061720 w 2061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54666" h="73797">
                <a:moveTo>
                  <a:pt x="32165" y="73797"/>
                </a:moveTo>
                <a:lnTo>
                  <a:pt x="318739" y="72203"/>
                </a:lnTo>
                <a:cubicBezTo>
                  <a:pt x="343456" y="38441"/>
                  <a:pt x="318689" y="71284"/>
                  <a:pt x="345296" y="42609"/>
                </a:cubicBezTo>
                <a:lnTo>
                  <a:pt x="469306" y="38846"/>
                </a:lnTo>
                <a:cubicBezTo>
                  <a:pt x="628512" y="42477"/>
                  <a:pt x="468644" y="38935"/>
                  <a:pt x="628608" y="42566"/>
                </a:cubicBezTo>
                <a:cubicBezTo>
                  <a:pt x="653075" y="1813"/>
                  <a:pt x="628048" y="42155"/>
                  <a:pt x="654666" y="785"/>
                </a:cubicBezTo>
                <a:lnTo>
                  <a:pt x="48846" y="0"/>
                </a:lnTo>
                <a:lnTo>
                  <a:pt x="21029" y="42064"/>
                </a:lnTo>
                <a:lnTo>
                  <a:pt x="0" y="44456"/>
                </a:lnTo>
                <a:lnTo>
                  <a:pt x="32165" y="7379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Volný tvar 2"/>
          <p:cNvSpPr/>
          <p:nvPr/>
        </p:nvSpPr>
        <p:spPr>
          <a:xfrm>
            <a:off x="3802680" y="3621960"/>
            <a:ext cx="1569240" cy="234720"/>
          </a:xfrm>
          <a:custGeom>
            <a:avLst/>
            <a:gdLst>
              <a:gd name="textAreaLeft" fmla="*/ 0 w 1569240"/>
              <a:gd name="textAreaRight" fmla="*/ 1569600 w 15692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69429" h="194858">
                <a:moveTo>
                  <a:pt x="937305" y="187911"/>
                </a:moveTo>
                <a:cubicBezTo>
                  <a:pt x="919031" y="201562"/>
                  <a:pt x="926444" y="190967"/>
                  <a:pt x="926992" y="190509"/>
                </a:cubicBezTo>
                <a:cubicBezTo>
                  <a:pt x="955832" y="193930"/>
                  <a:pt x="937029" y="190733"/>
                  <a:pt x="164992" y="180545"/>
                </a:cubicBezTo>
                <a:cubicBezTo>
                  <a:pt x="2953" y="104280"/>
                  <a:pt x="159664" y="180495"/>
                  <a:pt x="0" y="107461"/>
                </a:cubicBezTo>
                <a:cubicBezTo>
                  <a:pt x="83224" y="6535"/>
                  <a:pt x="215" y="108057"/>
                  <a:pt x="85689" y="3325"/>
                </a:cubicBezTo>
                <a:cubicBezTo>
                  <a:pt x="280701" y="6175"/>
                  <a:pt x="36952" y="5586"/>
                  <a:pt x="284242" y="5032"/>
                </a:cubicBezTo>
                <a:lnTo>
                  <a:pt x="1569429" y="0"/>
                </a:lnTo>
                <a:lnTo>
                  <a:pt x="1460542" y="108758"/>
                </a:lnTo>
                <a:cubicBezTo>
                  <a:pt x="1464471" y="106355"/>
                  <a:pt x="1027019" y="108606"/>
                  <a:pt x="1036633" y="108606"/>
                </a:cubicBezTo>
                <a:cubicBezTo>
                  <a:pt x="995333" y="113266"/>
                  <a:pt x="1032050" y="108890"/>
                  <a:pt x="934135" y="190509"/>
                </a:cubicBezTo>
                <a:cubicBezTo>
                  <a:pt x="757640" y="190445"/>
                  <a:pt x="938495" y="178614"/>
                  <a:pt x="937305" y="187911"/>
                </a:cubicBez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provádění zásypů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21"/>
          <p:cNvSpPr/>
          <p:nvPr/>
        </p:nvSpPr>
        <p:spPr>
          <a:xfrm>
            <a:off x="61560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22"/>
          <p:cNvSpPr/>
          <p:nvPr/>
        </p:nvSpPr>
        <p:spPr>
          <a:xfrm>
            <a:off x="41886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3"/>
          <p:cNvSpPr/>
          <p:nvPr/>
        </p:nvSpPr>
        <p:spPr>
          <a:xfrm>
            <a:off x="219564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A729-6C36-40C2-9F3A-FEC1991EAF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323543"/>
                </a:solidFill>
                <a:latin typeface="Calibri"/>
              </a:rPr>
              <a:t>Přirozené klenby v půdním prostřed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045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Rozložení sil působících na potrubí pod zemino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Síly v půdě se rozkládají do výsledného trojúhelníku na plošné zatížení o menším působení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běr obrázku pro potrubí nejmenší DN 150 a největší DN 500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olen vnitřní úhel tření 25°- 38° (dle zeminy v místě koridoru)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9" descr=""/>
          <p:cNvPicPr/>
          <p:nvPr/>
        </p:nvPicPr>
        <p:blipFill>
          <a:blip r:embed="rId3"/>
          <a:srcRect l="1675" t="24192" r="607" b="17214"/>
          <a:stretch/>
        </p:blipFill>
        <p:spPr>
          <a:xfrm>
            <a:off x="228960" y="1604520"/>
            <a:ext cx="8444880" cy="4050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180" name="Zástupný symbol pro obsah 3"/>
          <p:cNvSpPr/>
          <p:nvPr/>
        </p:nvSpPr>
        <p:spPr>
          <a:xfrm>
            <a:off x="361440" y="5131080"/>
            <a:ext cx="8230320" cy="1181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ávěr z obrázk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 60 cm krytí vytvoří dostatečnou přirozenou klenku proti účinkům vnějšího tlaku na zem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CAB-4C13-46C0-BAFB-E1E6152954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času při vý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nebude zbytečně namáháno pojezdem při odvozu zemin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kapacity pracovního prostor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bezpečnosti práce na 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Šetříme životní prostředí od výfukových plynů z doprav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finančních prostředk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osím o Vaše názory na konci prezent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3934080" y="585180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295920" y="2091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47A-7A08-4B3E-86B9-6B7E7F0B7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požadavků provozovatelů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má krytí 1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 kvalitu zodpovídá stavitel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 stresstest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po zasypání kalibr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inspek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3131-FE49-405B-927C-6ED829F4E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racoval: Ing. Jan Vosáhlo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HIP: Ing. Eva Macholdová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                         Předneseno: VUAS, 7.10.2015</a:t>
            </a: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6948360" y="6064920"/>
            <a:ext cx="1626840" cy="64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4539960" y="6110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193" name="Obrázek 6" descr=""/>
          <p:cNvPicPr/>
          <p:nvPr/>
        </p:nvPicPr>
        <p:blipFill>
          <a:blip r:embed="rId3"/>
          <a:stretch/>
        </p:blipFill>
        <p:spPr>
          <a:xfrm>
            <a:off x="1187640" y="6064920"/>
            <a:ext cx="1007640" cy="57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.huffpost.com/gen/1426929/images/o-PIPELINE-facebook.jpg"/>
          <p:cNvPicPr/>
          <p:nvPr/>
        </p:nvPicPr>
        <p:blipFill>
          <a:blip r:embed="rId4"/>
          <a:stretch/>
        </p:blipFill>
        <p:spPr>
          <a:xfrm>
            <a:off x="377280" y="1618920"/>
            <a:ext cx="8352720" cy="41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1C6-13BB-41FE-9F03-32A373B78B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íle projektu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syp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ůsobení sil na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B2D-82E1-4FD8-94D2-28AF44433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Cíl projektu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at potrubí ve 100% kondici 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poničené izol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tvarových anomálií a defekt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žadované krytí nad potrubím = 1,0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emina zhutněna v požadovaném stupni hutnění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nepřijatelné ovalit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všech požadavků provozovatel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323543"/>
                </a:solidFill>
                <a:latin typeface="Calibri"/>
              </a:rPr>
              <a:t>Přenesená zodpovědnost stavebníka na zhotovitele stavby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43520" y="20736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F55-2E54-4EE3-A1EB-F7B23B2D5D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obsah 2"/>
          <p:cNvSpPr/>
          <p:nvPr/>
        </p:nvSpPr>
        <p:spPr>
          <a:xfrm>
            <a:off x="251640" y="1556640"/>
            <a:ext cx="850392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ávrh projekta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stavba od východu k západu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acovní pruh zleva od potrubí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zprava od potrubí ve směru stani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na zasypanou a zhutněnou zem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 potrubí technikou minimalizovat na určené přejez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y osadit panely se stěrkovým podsyp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stup výstavby zhotoví dodavatel stavby, dle svých možnosti, projekt doporučuje určitý reálný postup pro splnění Vašich požada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436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0F11-6A98-48EB-8C47-5F3604B1E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Grafické znázornění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0804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ordinační situac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32" name="Obrázek 3" descr=""/>
          <p:cNvPicPr/>
          <p:nvPr/>
        </p:nvPicPr>
        <p:blipFill>
          <a:blip r:embed="rId3"/>
          <a:srcRect l="-399" t="13249" r="1680" b="31095"/>
          <a:stretch/>
        </p:blipFill>
        <p:spPr>
          <a:xfrm>
            <a:off x="301680" y="2133000"/>
            <a:ext cx="8462520" cy="38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BA3-AA66-4F40-BFEE-18C46AA3F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acovní pásma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brázek 4" descr=""/>
          <p:cNvPicPr/>
          <p:nvPr/>
        </p:nvPicPr>
        <p:blipFill>
          <a:blip r:embed="rId1"/>
          <a:srcRect l="20903" t="422" r="16165" b="689"/>
          <a:stretch/>
        </p:blipFill>
        <p:spPr>
          <a:xfrm>
            <a:off x="827640" y="1447920"/>
            <a:ext cx="2448000" cy="480888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6" descr=""/>
          <p:cNvPicPr/>
          <p:nvPr/>
        </p:nvPicPr>
        <p:blipFill>
          <a:blip r:embed="rId2"/>
          <a:stretch/>
        </p:blipFill>
        <p:spPr>
          <a:xfrm rot="16200000">
            <a:off x="4569120" y="1971720"/>
            <a:ext cx="4701960" cy="37612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7"/>
          <p:cNvSpPr/>
          <p:nvPr/>
        </p:nvSpPr>
        <p:spPr>
          <a:xfrm rot="3646800">
            <a:off x="5511600" y="3530880"/>
            <a:ext cx="21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avice pro dálkovodní ko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F88-8A61-4187-BDDB-0D9DC2763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rázek 7" descr=""/>
          <p:cNvPicPr/>
          <p:nvPr/>
        </p:nvPicPr>
        <p:blipFill>
          <a:blip r:embed="rId1"/>
          <a:srcRect l="9591" t="723" r="8559" b="1058"/>
          <a:stretch/>
        </p:blipFill>
        <p:spPr>
          <a:xfrm>
            <a:off x="683640" y="1484640"/>
            <a:ext cx="3165480" cy="4748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8" descr=""/>
          <p:cNvPicPr/>
          <p:nvPr/>
        </p:nvPicPr>
        <p:blipFill>
          <a:blip r:embed="rId2"/>
          <a:srcRect l="26613" t="1798" r="24477" b="2911"/>
          <a:stretch/>
        </p:blipFill>
        <p:spPr>
          <a:xfrm>
            <a:off x="6228360" y="2061000"/>
            <a:ext cx="2448000" cy="381600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9" descr=""/>
          <p:cNvPicPr/>
          <p:nvPr/>
        </p:nvPicPr>
        <p:blipFill>
          <a:blip r:embed="rId3"/>
          <a:srcRect l="3239" t="9379" r="1510" b="9285"/>
          <a:stretch/>
        </p:blipFill>
        <p:spPr>
          <a:xfrm rot="16200000">
            <a:off x="-26280" y="2211480"/>
            <a:ext cx="4536000" cy="309852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10" descr=""/>
          <p:cNvPicPr/>
          <p:nvPr/>
        </p:nvPicPr>
        <p:blipFill>
          <a:blip r:embed="rId4"/>
          <a:srcRect l="9615" t="821" r="8698" b="2992"/>
          <a:stretch/>
        </p:blipFill>
        <p:spPr>
          <a:xfrm>
            <a:off x="650520" y="1497600"/>
            <a:ext cx="3208680" cy="4722840"/>
          </a:xfrm>
          <a:prstGeom prst="rect">
            <a:avLst/>
          </a:prstGeom>
          <a:ln w="0">
            <a:noFill/>
          </a:ln>
        </p:spPr>
      </p:pic>
      <p:pic>
        <p:nvPicPr>
          <p:cNvPr id="142" name="Obrázek 11" descr=""/>
          <p:cNvPicPr/>
          <p:nvPr/>
        </p:nvPicPr>
        <p:blipFill>
          <a:blip r:embed="rId5"/>
          <a:srcRect l="5246" t="15015" r="1186" b="8350"/>
          <a:stretch/>
        </p:blipFill>
        <p:spPr>
          <a:xfrm rot="16200000">
            <a:off x="-173880" y="2301480"/>
            <a:ext cx="4735800" cy="31028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12" descr=""/>
          <p:cNvPicPr/>
          <p:nvPr/>
        </p:nvPicPr>
        <p:blipFill>
          <a:blip r:embed="rId6"/>
          <a:srcRect l="13666" t="836" r="9340" b="3843"/>
          <a:stretch/>
        </p:blipFill>
        <p:spPr>
          <a:xfrm>
            <a:off x="664200" y="1492560"/>
            <a:ext cx="31845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3" descr=""/>
          <p:cNvPicPr/>
          <p:nvPr/>
        </p:nvPicPr>
        <p:blipFill>
          <a:blip r:embed="rId7"/>
          <a:srcRect l="10116" t="1304" r="9945" b="3418"/>
          <a:stretch/>
        </p:blipFill>
        <p:spPr>
          <a:xfrm>
            <a:off x="650520" y="1492560"/>
            <a:ext cx="3310920" cy="488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1A67-09E5-4105-82FE-2F6EC7E15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ový stav při předání přeložk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hotovitel stavby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stavebník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  provozovatel dálkovodu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 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Přímá spojnice se šipkou 5"/>
          <p:cNvCxnSpPr/>
          <p:nvPr/>
        </p:nvCxnSpPr>
        <p:spPr>
          <a:xfrm>
            <a:off x="305964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48" name="Přímá spojnice se šipkou 7"/>
          <p:cNvCxnSpPr/>
          <p:nvPr/>
        </p:nvCxnSpPr>
        <p:spPr>
          <a:xfrm>
            <a:off x="500400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pic>
        <p:nvPicPr>
          <p:cNvPr id="149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" descr=""/>
          <p:cNvPicPr/>
          <p:nvPr/>
        </p:nvPicPr>
        <p:blipFill>
          <a:blip r:embed="rId3"/>
          <a:srcRect l="1250" t="15871" r="0" b="4763"/>
          <a:stretch/>
        </p:blipFill>
        <p:spPr>
          <a:xfrm>
            <a:off x="1835640" y="2498760"/>
            <a:ext cx="5687640" cy="36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9D6-C512-4245-A3B4-FAF8452990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ý příčný řez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1680" y="3241440"/>
            <a:ext cx="85039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EA81-F963-48E9-AE28-BB071F9EC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592</TotalTime>
  <Application>LibreOffice/7.4.7.2$Linux_X86_64 LibreOffice_project/40$Build-2</Application>
  <AppVersion>15.0000</AppVersion>
  <Words>355</Words>
  <Paragraphs>105</Paragraphs>
  <Company>Infotea s.r.o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19:14:47Z</dcterms:created>
  <dc:creator>Růžička Tomáš (ruzicka)</dc:creator>
  <dc:description/>
  <dc:language>en-US</dc:language>
  <cp:lastModifiedBy>Růžička Tomáš (ruzicka)</cp:lastModifiedBy>
  <dcterms:modified xsi:type="dcterms:W3CDTF">2016-03-10T08:29:34Z</dcterms:modified>
  <cp:revision>56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4</vt:r8>
  </property>
</Properties>
</file>